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7DA9-CB8E-4B30-BBD2-5199A89788D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590B-AA31-44A1-B459-D0DEE1088E7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4AC6-2312-4B7B-8593-57ADA9E2C75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751F-61E1-4454-BB86-B948E2D2C7A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834B-EC51-4DC0-A65D-B4EF2AD45D2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5463-52D0-4D2C-ADD8-D373D2AD2B4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4727-CBA2-47AF-A2A2-CD18221A11E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29EE-1161-4267-B1B0-AAAF6646935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AAEA-98B5-438D-BEA0-B0F93C765CA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AC31-0438-4A5B-8F3F-125092D3644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B8B9-9189-4E0B-BC13-C706753468E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7000-2E26-4756-BB1B-BAC97389D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0F11-A8E3-4B48-8BE8-4E834BA2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CC70-5A17-4550-AD9C-40564505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3D40-F01F-439E-A659-FF5482144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AC94-BE04-4635-B9C0-777793B9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9BCD-FA4E-4A4A-B08E-C6C6447E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B1E9-ACCC-4E60-A4CC-4B5A3038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9C38-64A3-42F5-9A68-205FF728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7C78-D5F5-4F65-9559-460B718F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052C-E12F-40F9-8186-3D0DCAD5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F434-777F-4CDA-A41B-C357E62E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4B54-9913-4DFA-9775-FCE785C2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FDDC-A61A-4C43-B509-86EF8E1F14D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STOPY BOŽÍ VE SVĚT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743200" y="5444640"/>
            <a:ext cx="640080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můcka k seznámení se s použitím přírodních symbolů v Bib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042920" y="2997000"/>
            <a:ext cx="6732720" cy="22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pracova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atechetické a pedagogické centrum Biskupství královéhradeckéh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 rámci projektu „Využití křesťanského dědictví ve výuce“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Určeno pouze pro výukové účel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lista-loga_barevne_male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195640" y="5157720"/>
            <a:ext cx="4392360" cy="795240"/>
          </a:xfrm>
          <a:prstGeom prst="rect">
            <a:avLst/>
          </a:prstGeom>
          <a:ln w="0">
            <a:noFill/>
          </a:ln>
        </p:spPr>
      </p:pic>
      <p:pic>
        <p:nvPicPr>
          <p:cNvPr id="70" name="Obrázek 1" descr=""/>
          <p:cNvPicPr/>
          <p:nvPr/>
        </p:nvPicPr>
        <p:blipFill>
          <a:blip r:embed="rId2"/>
          <a:stretch/>
        </p:blipFill>
        <p:spPr>
          <a:xfrm>
            <a:off x="3406680" y="314280"/>
            <a:ext cx="2330640" cy="264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áměty k práci se žák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chna náboženství využívají hojně přírodní a přirozené symboly. Na následujících snímcích naleznete odkazy na některé z ni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áci dostanou jako pomůcku Bibli, pracují ve dvojicích či trojicích. Každé skupině přidělte jeden symb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áci si najdou příslušné texty a opíší si je. Poté diskutují, jakým způsobem autor symbol použil. Hledají souvislost mezi vlastnostmi přírodniny (v jednom případě se jedná o dítě) a situací, ve které je jako symbol použi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slunce 1"/>
          <p:cNvPicPr/>
          <p:nvPr/>
        </p:nvPicPr>
        <p:blipFill>
          <a:blip r:embed="rId1"/>
          <a:stretch/>
        </p:blipFill>
        <p:spPr>
          <a:xfrm>
            <a:off x="1042920" y="260280"/>
            <a:ext cx="7056360" cy="53452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5084640"/>
            <a:ext cx="82296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Slunce: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n 1,14.16.18; Dt 33,14; Sd 5, 31; Ž 89, 37;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l 3, 20; Mt 13, 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slunce 1"/>
          <p:cNvPicPr/>
          <p:nvPr/>
        </p:nvPicPr>
        <p:blipFill>
          <a:blip r:embed="rId1"/>
          <a:stretch/>
        </p:blipFill>
        <p:spPr>
          <a:xfrm>
            <a:off x="1042920" y="260280"/>
            <a:ext cx="7056360" cy="53452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5084640"/>
            <a:ext cx="82296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Voda: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Ž 104; Ez 36,24–28; Ex 17,1–7 a Iz 41,17–20 a J 4,7–15; Ř 6,3–11 a Tt 3,5–7;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slunce 1"/>
          <p:cNvPicPr/>
          <p:nvPr/>
        </p:nvPicPr>
        <p:blipFill>
          <a:blip r:embed="rId1"/>
          <a:stretch/>
        </p:blipFill>
        <p:spPr>
          <a:xfrm>
            <a:off x="1619280" y="549360"/>
            <a:ext cx="597528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48"/>
          <p:cNvPicPr/>
          <p:nvPr/>
        </p:nvPicPr>
        <p:blipFill>
          <a:blip r:embed="rId2"/>
          <a:stretch/>
        </p:blipFill>
        <p:spPr>
          <a:xfrm>
            <a:off x="684360" y="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Skála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 32,1–43 (jednodušší: 2 S 22,32.47 a Ž 62, 3.8); Mt 16,18 a 1 K 3,10–15; Mt 7,2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PA280157"/>
          <p:cNvPicPr/>
          <p:nvPr/>
        </p:nvPicPr>
        <p:blipFill>
          <a:blip r:embed="rId1"/>
          <a:stretch/>
        </p:blipFill>
        <p:spPr>
          <a:xfrm>
            <a:off x="611280" y="-387360"/>
            <a:ext cx="7991280" cy="61167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373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Strom</a:t>
            </a:r>
            <a:br>
              <a:rPr sz="40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n 3,22.24 a Př 3,13–21; Oz 4,6–8 a Ez 17,22–24 a Mt 13,31–32; Oz 14,9 a J 15,1–14; Mdr 14,7–8 a Zj 2,7 a Zj 22,2.14;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hora2"/>
          <p:cNvPicPr/>
          <p:nvPr/>
        </p:nvPicPr>
        <p:blipFill>
          <a:blip r:embed="rId1"/>
          <a:stretch/>
        </p:blipFill>
        <p:spPr>
          <a:xfrm>
            <a:off x="468360" y="189000"/>
            <a:ext cx="8496360" cy="5646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Hora</a:t>
            </a:r>
            <a:br>
              <a:rPr sz="40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Ž 90,2 a J 4,20–24; Gn 19,17 a Mt 24,14–17 a Jr 3,21–23; Ex 24,12–18 a Mt 17,1–2; Ž 53,1 a J 19,17 a Zj 14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P5170369"/>
          <p:cNvPicPr/>
          <p:nvPr/>
        </p:nvPicPr>
        <p:blipFill>
          <a:blip r:embed="rId1"/>
          <a:stretch/>
        </p:blipFill>
        <p:spPr>
          <a:xfrm>
            <a:off x="684360" y="0"/>
            <a:ext cx="7632720" cy="57243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Dít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n 4,1 a Ž 128; L 2,22–24; Ž 131,2 a L 9,46–48; Mk 10,14–15 a Mt 11,25; Iz 9,1–6 a L 2,11–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P7210101"/>
          <p:cNvPicPr/>
          <p:nvPr/>
        </p:nvPicPr>
        <p:blipFill>
          <a:blip r:embed="rId1"/>
          <a:stretch/>
        </p:blipFill>
        <p:spPr>
          <a:xfrm>
            <a:off x="611280" y="0"/>
            <a:ext cx="7991280" cy="59943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Květina – lili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t 6,28–30; Ž 103,13–18 a Iz 40,5–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07:51:29Z</dcterms:created>
  <dc:creator>Katechetické a pedagogické centrum</dc:creator>
  <dc:description/>
  <dc:language>en-US</dc:language>
  <cp:lastModifiedBy>Zimmermannová Marie ThLic. Ing.</cp:lastModifiedBy>
  <dcterms:modified xsi:type="dcterms:W3CDTF">2012-07-13T17:35:02Z</dcterms:modified>
  <cp:revision>7</cp:revision>
  <dc:subject/>
  <dc:title>STOPY BOŽÍ VE SVĚTĚ</dc:title>
</cp:coreProperties>
</file>